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3AF-2A17-4F6A-8700-26B7A208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BE3-95E1-4DCC-8CF0-0EDD0F78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180-E877-4BB9-A182-5F37B773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E8D-F21D-4E1D-A91E-2CC6FDF2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588-C031-4DDB-B17C-B2DFBD5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BAF-4AF4-42A3-87DC-C492B68A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7E8-0BC1-4AC0-AFDC-F4434804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B52-B848-4A8F-8448-B9C5B857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C02-7624-4DD8-A44C-0F998E48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469-8D52-43BD-B482-5AE4ED1A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D7E-C9F3-4DF1-A81E-1EF2A6BD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2BB-5664-4191-96F3-AC87DF73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2FE9-D6A6-4120-8088-02787C05F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00280" y="-360"/>
            <a:ext cx="3673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8481960"/>
            <a:ext cx="61722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wozdanie z wykonania budżet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ĘŚĆ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9360" y="1281240"/>
            <a:ext cx="583236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00280" y="-360"/>
            <a:ext cx="3673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8697960"/>
            <a:ext cx="61722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wozdanie z wykonania budżet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ĘŚĆ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9360" y="1281240"/>
            <a:ext cx="583236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2:39:07Z</dcterms:created>
  <dc:creator>amatuszewska</dc:creator>
  <dc:description/>
  <dc:language>en-US</dc:language>
  <cp:lastModifiedBy>amatuszewska</cp:lastModifiedBy>
  <dcterms:modified xsi:type="dcterms:W3CDTF">2007-03-19T12:16:57Z</dcterms:modified>
  <cp:revision>7</cp:revision>
  <dc:subject/>
  <dc:title>Warszawa</dc:title>
</cp:coreProperties>
</file>